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64E-50C8-451C-B811-EE6C961F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F2A-6DD4-4B7D-BCAF-4AD68649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685-A5B1-421D-AAC5-1115CFAD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18F-862C-43FB-BCFB-9D0EAF08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2B7-FCE0-437D-BA9C-7996CF11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C1E-6C29-4557-A691-1F7D0E03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97D-374A-4BBF-AAD7-C96709B4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9BF-8A97-4AE3-9B2D-BCBF3CF3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69A-2724-4A86-B36C-FD8B03D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6D9-575D-4CC2-B032-9C3D878A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297-58BE-418F-85A2-33CA48E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01A-31E8-4919-B52B-4904197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A1F5-29AF-4427-828E-CA51A201B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6800" y="0"/>
            <a:ext cx="2237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e"/>
                </a:solidFill>
                <a:latin typeface="Comic Sans MS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41920" y="209880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03800" y="365040"/>
            <a:ext cx="12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18360" y="250812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9640" y="1584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2600" y="2879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5480" y="907920"/>
            <a:ext cx="15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51440" y="136512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1840" y="227016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94040" y="96516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37120" y="22212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2520" y="1784520"/>
            <a:ext cx="12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5200" y="0"/>
            <a:ext cx="209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e"/>
                </a:solidFill>
                <a:latin typeface="Comic Sans MS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9560" y="210816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03800" y="36504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18360" y="250812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9640" y="1584360"/>
            <a:ext cx="13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2600" y="287964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75480" y="907920"/>
            <a:ext cx="15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51440" y="1365120"/>
            <a:ext cx="15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1840" y="227016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94040" y="96516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440" y="367020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2520" y="178452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24:24Z</dcterms:created>
  <dc:creator>Helen</dc:creator>
  <dc:description/>
  <dc:language>en-US</dc:language>
  <cp:lastModifiedBy>Helen</cp:lastModifiedBy>
  <dcterms:modified xsi:type="dcterms:W3CDTF">2010-05-22T13:28:42Z</dcterms:modified>
  <cp:revision>2</cp:revision>
  <dc:subject/>
  <dc:title>Slide 1</dc:title>
</cp:coreProperties>
</file>